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A91C-B56B-4D97-85A6-46E93B5F5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D278-5569-4412-9C52-0E2F6440A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53E2-7EBB-4A87-894D-00D3F6635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D828-0641-46C2-B29D-79A1B96A6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35EE-E831-438A-B28F-42AC70B3D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A680-6E27-40AE-AE49-3F44D7637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E7CB-39DC-4F14-9A25-511C955F0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1D51-97A0-413E-9D91-3238BC613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DBC4-A049-4979-90E3-7D7AA793B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8109-3F8F-4844-91A1-5973182C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A8B1-E734-4208-87C0-218F9F0A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7520-5470-4CD5-BA7E-3FC5D529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88B4C-D093-4868-AF2C-6B452C585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1.8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oking for a Patter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2280" y="2514600"/>
            <a:ext cx="8718840" cy="1901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914400" y="39625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82880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Finding Number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8899560" cy="5073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8600" y="1905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6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22860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943600" y="3733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80240" y="373392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95480" y="44197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3     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343400" y="44197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2      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15000" y="4419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1      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467480" y="4419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0     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5105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4524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523880" y="228600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371600" y="304920"/>
            <a:ext cx="6384960" cy="6443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362320" y="213372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31 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480060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127 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26226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09480" y="579132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38088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 from objective 1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9T20:09:47Z</dcterms:created>
  <dc:creator>Susannah Graham</dc:creator>
  <dc:description/>
  <dc:language>en-US</dc:language>
  <cp:lastModifiedBy>Graham</cp:lastModifiedBy>
  <dcterms:modified xsi:type="dcterms:W3CDTF">2011-08-18T12:58:21Z</dcterms:modified>
  <cp:revision>4</cp:revision>
  <dc:subject/>
  <dc:title>Lesson 1.8 Multiplying and Dividing Integers</dc:title>
</cp:coreProperties>
</file>